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71BF-4BC9-4436-A05F-C849683C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4648-44C1-46FD-BAB3-4A763EF8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7EA7-B896-4A25-A34C-0ED974BA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F50B-E5A6-4801-B447-C77FABC1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BD29-C6E8-4007-9DCA-E32E6DB1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DB71-EB4A-484C-9783-4D775DC4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14D2-5389-4BB8-BE18-84F33D56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23C4-F27F-4167-8CD2-6682F1FD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39CE-A74A-476B-82AD-208E796D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8AF2-CDC7-4DCE-9FF1-67E8874A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0B56-C3D3-4005-8CD4-EFD56245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66DCD-6086-41CC-B848-8356C1DF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F60C-627F-4ACB-BF5E-A5DA10B2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F396-608E-4043-AC10-7F65A93B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9CC1-8940-47B3-8AF9-780A6832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D0A7-9373-4EFB-9A8C-DE4D68C2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A688-C395-4891-A265-122501E5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D7F7-84F6-40EC-9681-7BAF1C8F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E3F2-7624-460C-BBE1-FD3591ED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3E37-62E3-43F5-84AD-AAF7DB01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FE4E-83DD-4B62-8F4B-7CF66775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F110-C864-403D-B583-B00077E8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6792-13AB-410D-8379-5B250870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86FF-A7A1-4433-83DF-781FFAA2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491E-3FC9-408B-8C0C-23225CCE0E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F137-1C81-443C-A1AF-DA2FB6BCF7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 of Farm Animal Welfare Mea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igher standards likely to increase production co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in cage size for laying hens increases costs by 10-20% and elimination of cages by 40-70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rge impact on producers if consumers switch to competing products or non-conforming sources of supp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 of Farm Animal Welfare Mea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 is lower if consumers are willing to pay for higher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beling can be used to inform consumer cho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ut studies suggest that expressions of “willingness to pay” are not likely to be reflected in actual consumer cho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Measures The Fu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rowing pressure for higher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ifferences in legislation at the state level could lead to distor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alance needed between legislative and voluntary mechanis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research needed, particularly on economic aspects of higher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Humane Treatment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of Farm Animal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vid Blandf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umane Treatment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f Farm Anim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ductivity and animal welfare in conflict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rowing public pressure for higher welfare standards – production of eggs, pork and veal under particular scrutiny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approach should be used – self-regulation or legislatio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Concer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nimal welfare – a difficult concept to define and measure objective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fining “humane” treatment even more challenging due to value judgm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cientific indicators of well-being based on productivity, health, physiology and behavi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View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nimal rights – animal agriculture should not exi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lfare as a “moral” good – absolute standards that must be me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lfare as a market failure issue to which economic principles can be appli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Farm Animal Welfare Legislation - Feder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nimal Welfare Act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966) does not apply to farm anim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Humane Methods of Slaughter Ac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(1978) excludes poult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Twenty-eight Hour Law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(1873) regulates transportation of farm anim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Farm Animal Welfare Legislation - St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ew Jersey “humane” treatment act 1996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everal states (e.g., Florida) regulate use of crates for veal calves and sow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California Prevention of Farm Animal Cruelty Ac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comes into force in 201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allot initiatives have been used to promote legis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Farm Animal Welfare Legislation - St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everal states have established boards to advise on standards and pract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gulatory activity at the state level has been steadily increasing with differences in provisions and their scop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dustry Mea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ited Egg Producers (UEP) setting standards for laying hens since 199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Voluntary approaches to higher standards promoted by food industry organizations and private firms (e.g., McDonalds®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ome companies terminate contracts with suppliers that fail performance aud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0T21:37:19Z</dcterms:modified>
  <cp:revision>20</cp:revision>
  <dc:subject/>
  <dc:title>U.S. Policies Affecting Food and Agricultural Marketing</dc:title>
</cp:coreProperties>
</file>